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105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9.jpeg" ContentType="image/jpeg"/>
  <Override PartName="/ppt/media/image73.png" ContentType="image/png"/>
  <Override PartName="/ppt/media/image120.wmf" ContentType="image/x-wmf"/>
  <Override PartName="/ppt/media/image117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8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22.png" ContentType="image/png"/>
  <Override PartName="/ppt/media/image78.png" ContentType="image/png"/>
  <Override PartName="/ppt/media/image97.png" ContentType="image/png"/>
  <Override PartName="/ppt/media/image60.png" ContentType="image/png"/>
  <Override PartName="/ppt/media/image99.png" ContentType="image/png"/>
  <Override PartName="/ppt/media/image106.png" ContentType="image/png"/>
  <Override PartName="/ppt/media/image121.png" ContentType="image/png"/>
  <Override PartName="/ppt/media/image104.wmf" ContentType="image/x-wmf"/>
  <Override PartName="/ppt/media/image100.wmf" ContentType="image/x-wmf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02.png" ContentType="image/png"/>
  <Override PartName="/ppt/media/image113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62.png" ContentType="image/png"/>
  <Override PartName="/ppt/media/image116.wmf" ContentType="image/x-wmf"/>
  <Override PartName="/ppt/media/image69.png" ContentType="image/png"/>
  <Override PartName="/ppt/media/image67.jpeg" ContentType="image/jpeg"/>
  <Override PartName="/ppt/media/image118.png" ContentType="image/png"/>
  <Override PartName="/ppt/media/image21.png" ContentType="image/png"/>
  <Override PartName="/ppt/media/image58.png" ContentType="image/png"/>
  <Override PartName="/ppt/media/image66.png" ContentType="image/png"/>
  <Override PartName="/ppt/media/image119.wmf" ContentType="image/x-wmf"/>
  <Override PartName="/ppt/media/image65.png" ContentType="image/png"/>
  <Override PartName="/ppt/media/image64.png" ContentType="image/png"/>
  <Override PartName="/ppt/media/image63.png" ContentType="image/png"/>
  <Override PartName="/ppt/media/image109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95.png" ContentType="image/png"/>
  <Override PartName="/ppt/media/image52.wmf" ContentType="image/x-wmf"/>
  <Override PartName="/ppt/media/image24.jpeg" ContentType="image/jpeg"/>
  <Override PartName="/ppt/media/image59.png" ContentType="image/png"/>
  <Override PartName="/ppt/media/image110.png" ContentType="image/png"/>
  <Override PartName="/ppt/media/image25.png" ContentType="image/png"/>
  <Override PartName="/ppt/media/image9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935-BFD2-4F00-9471-6CDFB8F0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75B-A642-4C10-8727-85ECBD34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F31-2A83-4CE6-935B-6EC08EE3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A40-1F2A-41B1-8C0C-D5030541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CB8-2E46-425D-A1C0-3C77647C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3A5-7687-43BF-8B11-BA8D8D1A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0B7-E860-4692-863C-1C9DC65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78D-2A6A-42D5-AF17-ACAE6E4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586-A309-4775-A561-B7975340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6C9-C219-4277-940D-269EB56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79F-F677-46C2-BAA2-B860FEB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A9A-5AFD-4A03-BE66-21FA3B0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1D9-E334-4500-9865-31F1DAC2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0.wmf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5.wmf"/><Relationship Id="rId13" Type="http://schemas.openxmlformats.org/officeDocument/2006/relationships/image" Target="../media/image106.png"/><Relationship Id="rId14" Type="http://schemas.openxmlformats.org/officeDocument/2006/relationships/image" Target="../media/image10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image" Target="../media/image114.png"/><Relationship Id="rId8" Type="http://schemas.openxmlformats.org/officeDocument/2006/relationships/image" Target="../media/image11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16.wmf"/><Relationship Id="rId11" Type="http://schemas.openxmlformats.org/officeDocument/2006/relationships/image" Target="../media/image117.png"/><Relationship Id="rId12" Type="http://schemas.openxmlformats.org/officeDocument/2006/relationships/image" Target="../media/image118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20.wmf"/><Relationship Id="rId17" Type="http://schemas.openxmlformats.org/officeDocument/2006/relationships/image" Target="../media/image121.png"/><Relationship Id="rId18" Type="http://schemas.openxmlformats.org/officeDocument/2006/relationships/image" Target="../media/image12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419720" y="3733920"/>
            <a:ext cx="4724280" cy="1725480"/>
            <a:chOff x="4419720" y="3733920"/>
            <a:chExt cx="4724280" cy="1725480"/>
          </a:xfrm>
        </p:grpSpPr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4419720" y="3733920"/>
              <a:ext cx="4724280" cy="1725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981600" cy="3505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0" y="457200"/>
            <a:ext cx="4819680" cy="3171960"/>
            <a:chOff x="0" y="457200"/>
            <a:chExt cx="4819680" cy="3171960"/>
          </a:xfrm>
        </p:grpSpPr>
        <p:pic>
          <p:nvPicPr>
            <p:cNvPr id="871" name="" descr="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48196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1549080" y="60948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6320" y="3429000"/>
            <a:ext cx="4610160" cy="3209760"/>
            <a:chOff x="76320" y="3429000"/>
            <a:chExt cx="4610160" cy="3209760"/>
          </a:xfrm>
        </p:grpSpPr>
        <p:pic>
          <p:nvPicPr>
            <p:cNvPr id="874" name="" descr=""/>
            <p:cNvPicPr/>
            <p:nvPr/>
          </p:nvPicPr>
          <p:blipFill>
            <a:blip r:embed="rId3"/>
            <a:stretch/>
          </p:blipFill>
          <p:spPr>
            <a:xfrm>
              <a:off x="76320" y="3429000"/>
              <a:ext cx="46101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162504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495680" y="304920"/>
            <a:ext cx="4648320" cy="3343320"/>
            <a:chOff x="4495680" y="304920"/>
            <a:chExt cx="4648320" cy="3343320"/>
          </a:xfrm>
        </p:grpSpPr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4495680" y="304920"/>
              <a:ext cx="4648320" cy="33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5587560" y="68580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42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83" name="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7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93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4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6" name="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9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1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3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3" dur="indefinite" restart="never" nodeType="tmRoot">
          <p:childTnLst>
            <p:seq>
              <p:cTn id="2554" dur="indefinite" nodeType="mainSeq">
                <p:childTnLst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9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22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3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6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7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30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7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8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9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9" dur="indefinite" restart="never" nodeType="tmRoot">
          <p:childTnLst>
            <p:seq>
              <p:cTn id="2580" dur="indefinite" nodeType="mainSeq">
                <p:childTnLst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50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7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8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3" dur="indefinite" restart="never" nodeType="tmRoot">
          <p:childTnLst>
            <p:seq>
              <p:cTn id="2654" dur="indefinite" nodeType="mainSeq">
                <p:childTnLst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9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70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2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4" name="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5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8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9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5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6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7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6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7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1000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6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7" name="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9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0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11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4" name="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7" dur="indefinite" restart="never" nodeType="tmRoot">
          <p:childTnLst>
            <p:seq>
              <p:cTn id="2808" dur="indefinite" nodeType="mainSeq">
                <p:childTnLst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1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32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7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8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42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43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4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5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6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8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6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8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7" name="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70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5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6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9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9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0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93" name="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0" y="3733920"/>
            <a:ext cx="6477120" cy="2305080"/>
            <a:chOff x="0" y="3733920"/>
            <a:chExt cx="6477120" cy="2305080"/>
          </a:xfrm>
        </p:grpSpPr>
        <p:pic>
          <p:nvPicPr>
            <p:cNvPr id="1100" name="" descr=""/>
            <p:cNvPicPr/>
            <p:nvPr/>
          </p:nvPicPr>
          <p:blipFill>
            <a:blip r:embed="rId1"/>
            <a:stretch/>
          </p:blipFill>
          <p:spPr>
            <a:xfrm>
              <a:off x="0" y="3733920"/>
              <a:ext cx="64771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2178360" y="3870360"/>
              <a:ext cx="202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61800"/>
            <a:ext cx="3753000" cy="1695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2342880" y="-15840"/>
            <a:ext cx="687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FILTER EXHIBITS TOO MUCH OSCILLATION TO PULSE INPU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422160" y="304920"/>
            <a:ext cx="3425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made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809880" y="609480"/>
            <a:ext cx="5038920" cy="1648080"/>
            <a:chOff x="3809880" y="609480"/>
            <a:chExt cx="5038920" cy="1648080"/>
          </a:xfrm>
        </p:grpSpPr>
        <p:sp>
          <p:nvSpPr>
            <p:cNvPr id="1107" name=""/>
            <p:cNvSpPr/>
            <p:nvPr/>
          </p:nvSpPr>
          <p:spPr>
            <a:xfrm>
              <a:off x="4991760" y="609480"/>
              <a:ext cx="2837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exist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8" name="" descr=""/>
            <p:cNvPicPr/>
            <p:nvPr/>
          </p:nvPicPr>
          <p:blipFill>
            <a:blip r:embed="rId3"/>
            <a:stretch/>
          </p:blipFill>
          <p:spPr>
            <a:xfrm>
              <a:off x="3809880" y="914400"/>
              <a:ext cx="5038920" cy="134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9" name=""/>
          <p:cNvGrpSpPr/>
          <p:nvPr/>
        </p:nvGrpSpPr>
        <p:grpSpPr>
          <a:xfrm>
            <a:off x="3684600" y="569880"/>
            <a:ext cx="3063960" cy="1003320"/>
            <a:chOff x="3684600" y="569880"/>
            <a:chExt cx="3063960" cy="1003320"/>
          </a:xfrm>
        </p:grpSpPr>
        <p:graphicFrame>
          <p:nvGraphicFramePr>
            <p:cNvPr id="1110" name=""/>
            <p:cNvGraphicFramePr/>
            <p:nvPr/>
          </p:nvGraphicFramePr>
          <p:xfrm>
            <a:off x="3886200" y="609480"/>
            <a:ext cx="647640" cy="559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609480"/>
                      <a:ext cx="64764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2" name=""/>
            <p:cNvSpPr/>
            <p:nvPr/>
          </p:nvSpPr>
          <p:spPr>
            <a:xfrm>
              <a:off x="3684600" y="569880"/>
              <a:ext cx="3063960" cy="1003320"/>
            </a:xfrm>
            <a:custGeom>
              <a:avLst/>
              <a:gdLst/>
              <a:ahLst/>
              <a:rect l="l" t="t" r="r" b="b"/>
              <a:pathLst>
                <a:path w="1930" h="632">
                  <a:moveTo>
                    <a:pt x="691" y="245"/>
                  </a:moveTo>
                  <a:cubicBezTo>
                    <a:pt x="680" y="211"/>
                    <a:pt x="679" y="173"/>
                    <a:pt x="663" y="141"/>
                  </a:cubicBezTo>
                  <a:cubicBezTo>
                    <a:pt x="647" y="108"/>
                    <a:pt x="640" y="114"/>
                    <a:pt x="616" y="85"/>
                  </a:cubicBezTo>
                  <a:cubicBezTo>
                    <a:pt x="569" y="28"/>
                    <a:pt x="542" y="16"/>
                    <a:pt x="474" y="0"/>
                  </a:cubicBezTo>
                  <a:cubicBezTo>
                    <a:pt x="416" y="14"/>
                    <a:pt x="363" y="22"/>
                    <a:pt x="304" y="28"/>
                  </a:cubicBezTo>
                  <a:cubicBezTo>
                    <a:pt x="267" y="53"/>
                    <a:pt x="215" y="76"/>
                    <a:pt x="181" y="104"/>
                  </a:cubicBezTo>
                  <a:cubicBezTo>
                    <a:pt x="171" y="112"/>
                    <a:pt x="164" y="124"/>
                    <a:pt x="153" y="132"/>
                  </a:cubicBezTo>
                  <a:cubicBezTo>
                    <a:pt x="97" y="172"/>
                    <a:pt x="52" y="193"/>
                    <a:pt x="11" y="255"/>
                  </a:cubicBezTo>
                  <a:cubicBezTo>
                    <a:pt x="29" y="393"/>
                    <a:pt x="0" y="285"/>
                    <a:pt x="49" y="359"/>
                  </a:cubicBezTo>
                  <a:cubicBezTo>
                    <a:pt x="54" y="367"/>
                    <a:pt x="52" y="380"/>
                    <a:pt x="59" y="387"/>
                  </a:cubicBezTo>
                  <a:cubicBezTo>
                    <a:pt x="73" y="401"/>
                    <a:pt x="97" y="398"/>
                    <a:pt x="115" y="406"/>
                  </a:cubicBezTo>
                  <a:cubicBezTo>
                    <a:pt x="128" y="412"/>
                    <a:pt x="139" y="423"/>
                    <a:pt x="153" y="425"/>
                  </a:cubicBezTo>
                  <a:cubicBezTo>
                    <a:pt x="215" y="435"/>
                    <a:pt x="342" y="444"/>
                    <a:pt x="342" y="444"/>
                  </a:cubicBezTo>
                  <a:cubicBezTo>
                    <a:pt x="389" y="441"/>
                    <a:pt x="436" y="442"/>
                    <a:pt x="483" y="434"/>
                  </a:cubicBezTo>
                  <a:cubicBezTo>
                    <a:pt x="524" y="427"/>
                    <a:pt x="610" y="357"/>
                    <a:pt x="663" y="340"/>
                  </a:cubicBezTo>
                  <a:cubicBezTo>
                    <a:pt x="697" y="305"/>
                    <a:pt x="722" y="308"/>
                    <a:pt x="767" y="293"/>
                  </a:cubicBezTo>
                  <a:cubicBezTo>
                    <a:pt x="852" y="265"/>
                    <a:pt x="943" y="254"/>
                    <a:pt x="1031" y="245"/>
                  </a:cubicBezTo>
                  <a:cubicBezTo>
                    <a:pt x="1081" y="233"/>
                    <a:pt x="1132" y="229"/>
                    <a:pt x="1182" y="217"/>
                  </a:cubicBezTo>
                  <a:cubicBezTo>
                    <a:pt x="1345" y="224"/>
                    <a:pt x="1502" y="239"/>
                    <a:pt x="1664" y="255"/>
                  </a:cubicBezTo>
                  <a:cubicBezTo>
                    <a:pt x="1687" y="271"/>
                    <a:pt x="1775" y="320"/>
                    <a:pt x="1796" y="349"/>
                  </a:cubicBezTo>
                  <a:cubicBezTo>
                    <a:pt x="1828" y="392"/>
                    <a:pt x="1862" y="434"/>
                    <a:pt x="1900" y="472"/>
                  </a:cubicBezTo>
                  <a:cubicBezTo>
                    <a:pt x="1906" y="492"/>
                    <a:pt x="1926" y="508"/>
                    <a:pt x="1928" y="529"/>
                  </a:cubicBezTo>
                  <a:cubicBezTo>
                    <a:pt x="1930" y="551"/>
                    <a:pt x="1929" y="575"/>
                    <a:pt x="1919" y="595"/>
                  </a:cubicBezTo>
                  <a:cubicBezTo>
                    <a:pt x="1914" y="604"/>
                    <a:pt x="1900" y="601"/>
                    <a:pt x="1890" y="604"/>
                  </a:cubicBezTo>
                  <a:cubicBezTo>
                    <a:pt x="1881" y="607"/>
                    <a:pt x="1872" y="613"/>
                    <a:pt x="1862" y="614"/>
                  </a:cubicBezTo>
                  <a:cubicBezTo>
                    <a:pt x="1796" y="622"/>
                    <a:pt x="1730" y="624"/>
                    <a:pt x="1664" y="632"/>
                  </a:cubicBezTo>
                  <a:cubicBezTo>
                    <a:pt x="1504" y="627"/>
                    <a:pt x="1349" y="628"/>
                    <a:pt x="1192" y="604"/>
                  </a:cubicBezTo>
                  <a:cubicBezTo>
                    <a:pt x="1079" y="569"/>
                    <a:pt x="974" y="497"/>
                    <a:pt x="908" y="396"/>
                  </a:cubicBezTo>
                  <a:cubicBezTo>
                    <a:pt x="889" y="319"/>
                    <a:pt x="912" y="396"/>
                    <a:pt x="880" y="330"/>
                  </a:cubicBezTo>
                  <a:cubicBezTo>
                    <a:pt x="876" y="321"/>
                    <a:pt x="871" y="302"/>
                    <a:pt x="871" y="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" descr=""/>
          <p:cNvPicPr/>
          <p:nvPr/>
        </p:nvPicPr>
        <p:blipFill>
          <a:blip r:embed="rId6"/>
          <a:stretch/>
        </p:blipFill>
        <p:spPr>
          <a:xfrm>
            <a:off x="76320" y="2133720"/>
            <a:ext cx="3314520" cy="78084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7"/>
          <a:stretch/>
        </p:blipFill>
        <p:spPr>
          <a:xfrm>
            <a:off x="3657600" y="2286000"/>
            <a:ext cx="2457360" cy="6573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1115" name="" descr=""/>
          <p:cNvPicPr/>
          <p:nvPr/>
        </p:nvPicPr>
        <p:blipFill>
          <a:blip r:embed="rId8"/>
          <a:stretch/>
        </p:blipFill>
        <p:spPr>
          <a:xfrm>
            <a:off x="6172200" y="2286000"/>
            <a:ext cx="2971800" cy="6285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sp>
        <p:nvSpPr>
          <p:cNvPr id="1116" name=""/>
          <p:cNvSpPr/>
          <p:nvPr/>
        </p:nvSpPr>
        <p:spPr>
          <a:xfrm>
            <a:off x="6168960" y="2184480"/>
            <a:ext cx="1374840" cy="874800"/>
          </a:xfrm>
          <a:custGeom>
            <a:avLst/>
            <a:gdLst/>
            <a:ahLst/>
            <a:rect l="l" t="t" r="r" b="b"/>
            <a:pathLst>
              <a:path w="866" h="551">
                <a:moveTo>
                  <a:pt x="807" y="476"/>
                </a:moveTo>
                <a:cubicBezTo>
                  <a:pt x="824" y="423"/>
                  <a:pt x="837" y="368"/>
                  <a:pt x="854" y="315"/>
                </a:cubicBezTo>
                <a:cubicBezTo>
                  <a:pt x="846" y="168"/>
                  <a:pt x="866" y="82"/>
                  <a:pt x="713" y="41"/>
                </a:cubicBezTo>
                <a:cubicBezTo>
                  <a:pt x="647" y="0"/>
                  <a:pt x="542" y="10"/>
                  <a:pt x="467" y="4"/>
                </a:cubicBezTo>
                <a:cubicBezTo>
                  <a:pt x="440" y="6"/>
                  <a:pt x="232" y="17"/>
                  <a:pt x="193" y="23"/>
                </a:cubicBezTo>
                <a:cubicBezTo>
                  <a:pt x="174" y="26"/>
                  <a:pt x="137" y="41"/>
                  <a:pt x="137" y="41"/>
                </a:cubicBezTo>
                <a:cubicBezTo>
                  <a:pt x="84" y="76"/>
                  <a:pt x="119" y="50"/>
                  <a:pt x="52" y="117"/>
                </a:cubicBezTo>
                <a:cubicBezTo>
                  <a:pt x="42" y="127"/>
                  <a:pt x="23" y="145"/>
                  <a:pt x="23" y="145"/>
                </a:cubicBezTo>
                <a:cubicBezTo>
                  <a:pt x="17" y="164"/>
                  <a:pt x="4" y="182"/>
                  <a:pt x="4" y="202"/>
                </a:cubicBezTo>
                <a:cubicBezTo>
                  <a:pt x="4" y="250"/>
                  <a:pt x="0" y="302"/>
                  <a:pt x="23" y="344"/>
                </a:cubicBezTo>
                <a:cubicBezTo>
                  <a:pt x="100" y="484"/>
                  <a:pt x="283" y="523"/>
                  <a:pt x="429" y="551"/>
                </a:cubicBezTo>
                <a:cubicBezTo>
                  <a:pt x="498" y="548"/>
                  <a:pt x="568" y="548"/>
                  <a:pt x="637" y="542"/>
                </a:cubicBezTo>
                <a:cubicBezTo>
                  <a:pt x="681" y="538"/>
                  <a:pt x="734" y="512"/>
                  <a:pt x="779" y="504"/>
                </a:cubicBezTo>
                <a:cubicBezTo>
                  <a:pt x="785" y="495"/>
                  <a:pt x="793" y="486"/>
                  <a:pt x="798" y="476"/>
                </a:cubicBezTo>
                <a:cubicBezTo>
                  <a:pt x="810" y="452"/>
                  <a:pt x="807" y="423"/>
                  <a:pt x="807" y="47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52280" y="2984400"/>
            <a:ext cx="5639040" cy="459000"/>
            <a:chOff x="152280" y="2984400"/>
            <a:chExt cx="5639040" cy="459000"/>
          </a:xfrm>
        </p:grpSpPr>
        <p:graphicFrame>
          <p:nvGraphicFramePr>
            <p:cNvPr id="1118" name=""/>
            <p:cNvGraphicFramePr/>
            <p:nvPr/>
          </p:nvGraphicFramePr>
          <p:xfrm>
            <a:off x="152280" y="3048120"/>
            <a:ext cx="113040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280" y="3048120"/>
                      <a:ext cx="113040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0" name=""/>
            <p:cNvGraphicFramePr/>
            <p:nvPr/>
          </p:nvGraphicFramePr>
          <p:xfrm>
            <a:off x="1371600" y="2984400"/>
            <a:ext cx="4419720" cy="459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984400"/>
                      <a:ext cx="4419720" cy="4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2" name=""/>
          <p:cNvSpPr/>
          <p:nvPr/>
        </p:nvSpPr>
        <p:spPr>
          <a:xfrm>
            <a:off x="1438560" y="3413160"/>
            <a:ext cx="4074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 resistance by a factor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5638680" y="3184560"/>
            <a:ext cx="3514680" cy="1025640"/>
            <a:chOff x="5638680" y="3184560"/>
            <a:chExt cx="3514680" cy="1025640"/>
          </a:xfrm>
        </p:grpSpPr>
        <p:pic>
          <p:nvPicPr>
            <p:cNvPr id="1124" name="" descr=""/>
            <p:cNvPicPr/>
            <p:nvPr/>
          </p:nvPicPr>
          <p:blipFill>
            <a:blip r:embed="rId13"/>
            <a:stretch/>
          </p:blipFill>
          <p:spPr>
            <a:xfrm>
              <a:off x="5638680" y="3429000"/>
              <a:ext cx="3514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6576120" y="3184560"/>
              <a:ext cx="1838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6" name="" descr=""/>
          <p:cNvPicPr/>
          <p:nvPr/>
        </p:nvPicPr>
        <p:blipFill>
          <a:blip r:embed="rId14"/>
          <a:stretch/>
        </p:blipFill>
        <p:spPr>
          <a:xfrm>
            <a:off x="6934320" y="4495680"/>
            <a:ext cx="1409760" cy="3812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1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3" dur="indefinite" restart="never" nodeType="tmRoot">
          <p:childTnLst>
            <p:seq>
              <p:cTn id="3014" dur="indefinite" nodeType="mainSeq">
                <p:childTnLst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fill="hold">
                      <p:stCondLst>
                        <p:cond delay="indefinite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4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6667560" cy="1257480"/>
          </a:xfrm>
          <a:prstGeom prst="rect">
            <a:avLst/>
          </a:prstGeom>
          <a:ln w="0">
            <a:noFill/>
          </a:ln>
        </p:spPr>
      </p:pic>
      <p:sp>
        <p:nvSpPr>
          <p:cNvPr id="11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4733640" cy="24192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3480" y="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48840" y="60480"/>
            <a:ext cx="330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10kHz Wein Bridge 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3"/>
          <a:stretch/>
        </p:blipFill>
        <p:spPr>
          <a:xfrm>
            <a:off x="5257800" y="533520"/>
            <a:ext cx="2828880" cy="7426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4"/>
          <a:stretch/>
        </p:blipFill>
        <p:spPr>
          <a:xfrm>
            <a:off x="5334120" y="1295280"/>
            <a:ext cx="27813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44280" y="465120"/>
            <a:ext cx="3627720" cy="3360600"/>
            <a:chOff x="44280" y="465120"/>
            <a:chExt cx="3627720" cy="3360600"/>
          </a:xfrm>
        </p:grpSpPr>
        <p:pic>
          <p:nvPicPr>
            <p:cNvPr id="1138" name="" descr=""/>
            <p:cNvPicPr/>
            <p:nvPr/>
          </p:nvPicPr>
          <p:blipFill>
            <a:blip r:embed="rId5"/>
            <a:stretch/>
          </p:blipFill>
          <p:spPr>
            <a:xfrm>
              <a:off x="76320" y="2819520"/>
              <a:ext cx="3219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4280" y="465120"/>
              <a:ext cx="3627720" cy="3360600"/>
            </a:xfrm>
            <a:custGeom>
              <a:avLst/>
              <a:gdLst/>
              <a:ahLst/>
              <a:rect l="l" t="t" r="r" b="b"/>
              <a:pathLst>
                <a:path w="2285" h="2117">
                  <a:moveTo>
                    <a:pt x="1124" y="925"/>
                  </a:moveTo>
                  <a:cubicBezTo>
                    <a:pt x="1148" y="854"/>
                    <a:pt x="1156" y="785"/>
                    <a:pt x="1190" y="717"/>
                  </a:cubicBezTo>
                  <a:cubicBezTo>
                    <a:pt x="1193" y="701"/>
                    <a:pt x="1195" y="685"/>
                    <a:pt x="1200" y="670"/>
                  </a:cubicBezTo>
                  <a:cubicBezTo>
                    <a:pt x="1204" y="657"/>
                    <a:pt x="1217" y="646"/>
                    <a:pt x="1218" y="632"/>
                  </a:cubicBezTo>
                  <a:cubicBezTo>
                    <a:pt x="1224" y="513"/>
                    <a:pt x="1198" y="427"/>
                    <a:pt x="1162" y="321"/>
                  </a:cubicBezTo>
                  <a:cubicBezTo>
                    <a:pt x="1144" y="269"/>
                    <a:pt x="1138" y="232"/>
                    <a:pt x="1105" y="189"/>
                  </a:cubicBezTo>
                  <a:cubicBezTo>
                    <a:pt x="1094" y="141"/>
                    <a:pt x="1062" y="84"/>
                    <a:pt x="1011" y="66"/>
                  </a:cubicBezTo>
                  <a:cubicBezTo>
                    <a:pt x="981" y="55"/>
                    <a:pt x="916" y="47"/>
                    <a:pt x="916" y="47"/>
                  </a:cubicBezTo>
                  <a:cubicBezTo>
                    <a:pt x="863" y="25"/>
                    <a:pt x="813" y="11"/>
                    <a:pt x="756" y="0"/>
                  </a:cubicBezTo>
                  <a:cubicBezTo>
                    <a:pt x="588" y="7"/>
                    <a:pt x="421" y="11"/>
                    <a:pt x="255" y="37"/>
                  </a:cubicBezTo>
                  <a:cubicBezTo>
                    <a:pt x="205" y="55"/>
                    <a:pt x="173" y="91"/>
                    <a:pt x="123" y="104"/>
                  </a:cubicBezTo>
                  <a:cubicBezTo>
                    <a:pt x="86" y="141"/>
                    <a:pt x="61" y="181"/>
                    <a:pt x="38" y="226"/>
                  </a:cubicBezTo>
                  <a:cubicBezTo>
                    <a:pt x="23" y="290"/>
                    <a:pt x="9" y="349"/>
                    <a:pt x="0" y="415"/>
                  </a:cubicBezTo>
                  <a:cubicBezTo>
                    <a:pt x="9" y="587"/>
                    <a:pt x="12" y="765"/>
                    <a:pt x="38" y="935"/>
                  </a:cubicBezTo>
                  <a:cubicBezTo>
                    <a:pt x="49" y="1006"/>
                    <a:pt x="52" y="1071"/>
                    <a:pt x="104" y="1123"/>
                  </a:cubicBezTo>
                  <a:cubicBezTo>
                    <a:pt x="125" y="1185"/>
                    <a:pt x="177" y="1211"/>
                    <a:pt x="227" y="1246"/>
                  </a:cubicBezTo>
                  <a:cubicBezTo>
                    <a:pt x="311" y="1304"/>
                    <a:pt x="411" y="1320"/>
                    <a:pt x="510" y="1341"/>
                  </a:cubicBezTo>
                  <a:cubicBezTo>
                    <a:pt x="637" y="1326"/>
                    <a:pt x="647" y="1328"/>
                    <a:pt x="737" y="1293"/>
                  </a:cubicBezTo>
                  <a:cubicBezTo>
                    <a:pt x="753" y="1287"/>
                    <a:pt x="768" y="1280"/>
                    <a:pt x="784" y="1274"/>
                  </a:cubicBezTo>
                  <a:cubicBezTo>
                    <a:pt x="803" y="1267"/>
                    <a:pt x="841" y="1256"/>
                    <a:pt x="841" y="1256"/>
                  </a:cubicBezTo>
                  <a:cubicBezTo>
                    <a:pt x="853" y="1246"/>
                    <a:pt x="865" y="1235"/>
                    <a:pt x="878" y="1227"/>
                  </a:cubicBezTo>
                  <a:cubicBezTo>
                    <a:pt x="890" y="1219"/>
                    <a:pt x="904" y="1216"/>
                    <a:pt x="916" y="1208"/>
                  </a:cubicBezTo>
                  <a:cubicBezTo>
                    <a:pt x="965" y="1174"/>
                    <a:pt x="1008" y="1129"/>
                    <a:pt x="1058" y="1095"/>
                  </a:cubicBezTo>
                  <a:lnTo>
                    <a:pt x="1105" y="1010"/>
                  </a:lnTo>
                  <a:cubicBezTo>
                    <a:pt x="1105" y="1010"/>
                    <a:pt x="1105" y="1010"/>
                    <a:pt x="1105" y="1010"/>
                  </a:cubicBezTo>
                  <a:cubicBezTo>
                    <a:pt x="1108" y="1001"/>
                    <a:pt x="1112" y="991"/>
                    <a:pt x="1115" y="982"/>
                  </a:cubicBezTo>
                  <a:cubicBezTo>
                    <a:pt x="1118" y="972"/>
                    <a:pt x="1134" y="953"/>
                    <a:pt x="1124" y="953"/>
                  </a:cubicBezTo>
                  <a:cubicBezTo>
                    <a:pt x="1108" y="953"/>
                    <a:pt x="1098" y="972"/>
                    <a:pt x="1086" y="982"/>
                  </a:cubicBezTo>
                  <a:cubicBezTo>
                    <a:pt x="1056" y="1008"/>
                    <a:pt x="1041" y="1042"/>
                    <a:pt x="1011" y="1067"/>
                  </a:cubicBezTo>
                  <a:cubicBezTo>
                    <a:pt x="919" y="1145"/>
                    <a:pt x="826" y="1211"/>
                    <a:pt x="718" y="1265"/>
                  </a:cubicBezTo>
                  <a:cubicBezTo>
                    <a:pt x="708" y="1270"/>
                    <a:pt x="701" y="1281"/>
                    <a:pt x="690" y="1284"/>
                  </a:cubicBezTo>
                  <a:cubicBezTo>
                    <a:pt x="669" y="1290"/>
                    <a:pt x="646" y="1290"/>
                    <a:pt x="624" y="1293"/>
                  </a:cubicBezTo>
                  <a:cubicBezTo>
                    <a:pt x="597" y="1302"/>
                    <a:pt x="566" y="1302"/>
                    <a:pt x="539" y="1312"/>
                  </a:cubicBezTo>
                  <a:cubicBezTo>
                    <a:pt x="478" y="1335"/>
                    <a:pt x="430" y="1382"/>
                    <a:pt x="369" y="1397"/>
                  </a:cubicBezTo>
                  <a:cubicBezTo>
                    <a:pt x="311" y="1432"/>
                    <a:pt x="255" y="1456"/>
                    <a:pt x="189" y="1473"/>
                  </a:cubicBezTo>
                  <a:cubicBezTo>
                    <a:pt x="135" y="1459"/>
                    <a:pt x="124" y="1454"/>
                    <a:pt x="66" y="1463"/>
                  </a:cubicBezTo>
                  <a:cubicBezTo>
                    <a:pt x="60" y="1473"/>
                    <a:pt x="56" y="1484"/>
                    <a:pt x="48" y="1492"/>
                  </a:cubicBezTo>
                  <a:cubicBezTo>
                    <a:pt x="40" y="1500"/>
                    <a:pt x="20" y="1499"/>
                    <a:pt x="19" y="1511"/>
                  </a:cubicBezTo>
                  <a:cubicBezTo>
                    <a:pt x="4" y="1670"/>
                    <a:pt x="15" y="1638"/>
                    <a:pt x="38" y="1718"/>
                  </a:cubicBezTo>
                  <a:cubicBezTo>
                    <a:pt x="58" y="1788"/>
                    <a:pt x="82" y="1846"/>
                    <a:pt x="123" y="1907"/>
                  </a:cubicBezTo>
                  <a:cubicBezTo>
                    <a:pt x="200" y="2023"/>
                    <a:pt x="430" y="2063"/>
                    <a:pt x="557" y="2068"/>
                  </a:cubicBezTo>
                  <a:cubicBezTo>
                    <a:pt x="692" y="2073"/>
                    <a:pt x="828" y="2074"/>
                    <a:pt x="963" y="2077"/>
                  </a:cubicBezTo>
                  <a:cubicBezTo>
                    <a:pt x="1080" y="2117"/>
                    <a:pt x="1307" y="2109"/>
                    <a:pt x="1436" y="2115"/>
                  </a:cubicBezTo>
                  <a:cubicBezTo>
                    <a:pt x="1486" y="2113"/>
                    <a:pt x="1710" y="2104"/>
                    <a:pt x="1785" y="2096"/>
                  </a:cubicBezTo>
                  <a:cubicBezTo>
                    <a:pt x="1885" y="2085"/>
                    <a:pt x="1992" y="2016"/>
                    <a:pt x="2078" y="1973"/>
                  </a:cubicBezTo>
                  <a:cubicBezTo>
                    <a:pt x="2096" y="1964"/>
                    <a:pt x="2108" y="1946"/>
                    <a:pt x="2125" y="1935"/>
                  </a:cubicBezTo>
                  <a:cubicBezTo>
                    <a:pt x="2175" y="1902"/>
                    <a:pt x="2228" y="1879"/>
                    <a:pt x="2257" y="1822"/>
                  </a:cubicBezTo>
                  <a:cubicBezTo>
                    <a:pt x="2274" y="1790"/>
                    <a:pt x="2285" y="1718"/>
                    <a:pt x="2285" y="1718"/>
                  </a:cubicBezTo>
                  <a:cubicBezTo>
                    <a:pt x="2272" y="1621"/>
                    <a:pt x="2245" y="1543"/>
                    <a:pt x="2191" y="1463"/>
                  </a:cubicBezTo>
                  <a:cubicBezTo>
                    <a:pt x="2174" y="1438"/>
                    <a:pt x="2124" y="1426"/>
                    <a:pt x="2097" y="1416"/>
                  </a:cubicBezTo>
                  <a:cubicBezTo>
                    <a:pt x="2048" y="1418"/>
                    <a:pt x="1752" y="1423"/>
                    <a:pt x="1643" y="1435"/>
                  </a:cubicBezTo>
                  <a:cubicBezTo>
                    <a:pt x="1634" y="1436"/>
                    <a:pt x="1596" y="1452"/>
                    <a:pt x="1587" y="1454"/>
                  </a:cubicBezTo>
                  <a:cubicBezTo>
                    <a:pt x="1502" y="1475"/>
                    <a:pt x="1417" y="1500"/>
                    <a:pt x="1332" y="1520"/>
                  </a:cubicBezTo>
                  <a:cubicBezTo>
                    <a:pt x="1187" y="1475"/>
                    <a:pt x="1045" y="1430"/>
                    <a:pt x="897" y="1397"/>
                  </a:cubicBezTo>
                  <a:cubicBezTo>
                    <a:pt x="800" y="1375"/>
                    <a:pt x="706" y="1331"/>
                    <a:pt x="605" y="133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382840" y="390600"/>
            <a:ext cx="4044960" cy="2487600"/>
            <a:chOff x="2382840" y="390600"/>
            <a:chExt cx="4044960" cy="2487600"/>
          </a:xfrm>
        </p:grpSpPr>
        <p:pic>
          <p:nvPicPr>
            <p:cNvPr id="1141" name="" descr=""/>
            <p:cNvPicPr/>
            <p:nvPr/>
          </p:nvPicPr>
          <p:blipFill>
            <a:blip r:embed="rId6"/>
            <a:stretch/>
          </p:blipFill>
          <p:spPr>
            <a:xfrm>
              <a:off x="3505320" y="2133720"/>
              <a:ext cx="28098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2382840" y="390600"/>
              <a:ext cx="1770120" cy="793800"/>
            </a:xfrm>
            <a:custGeom>
              <a:avLst/>
              <a:gdLst/>
              <a:ahLst/>
              <a:rect l="l" t="t" r="r" b="b"/>
              <a:pathLst>
                <a:path w="1115" h="500">
                  <a:moveTo>
                    <a:pt x="1115" y="264"/>
                  </a:moveTo>
                  <a:cubicBezTo>
                    <a:pt x="1074" y="202"/>
                    <a:pt x="1072" y="206"/>
                    <a:pt x="1020" y="160"/>
                  </a:cubicBezTo>
                  <a:cubicBezTo>
                    <a:pt x="972" y="118"/>
                    <a:pt x="965" y="94"/>
                    <a:pt x="907" y="75"/>
                  </a:cubicBezTo>
                  <a:cubicBezTo>
                    <a:pt x="833" y="1"/>
                    <a:pt x="697" y="13"/>
                    <a:pt x="605" y="9"/>
                  </a:cubicBezTo>
                  <a:cubicBezTo>
                    <a:pt x="517" y="5"/>
                    <a:pt x="428" y="3"/>
                    <a:pt x="340" y="0"/>
                  </a:cubicBezTo>
                  <a:cubicBezTo>
                    <a:pt x="231" y="6"/>
                    <a:pt x="172" y="11"/>
                    <a:pt x="76" y="28"/>
                  </a:cubicBezTo>
                  <a:cubicBezTo>
                    <a:pt x="63" y="47"/>
                    <a:pt x="51" y="65"/>
                    <a:pt x="38" y="84"/>
                  </a:cubicBezTo>
                  <a:cubicBezTo>
                    <a:pt x="32" y="94"/>
                    <a:pt x="19" y="113"/>
                    <a:pt x="19" y="113"/>
                  </a:cubicBezTo>
                  <a:cubicBezTo>
                    <a:pt x="0" y="214"/>
                    <a:pt x="36" y="314"/>
                    <a:pt x="142" y="339"/>
                  </a:cubicBezTo>
                  <a:cubicBezTo>
                    <a:pt x="187" y="373"/>
                    <a:pt x="242" y="409"/>
                    <a:pt x="293" y="434"/>
                  </a:cubicBezTo>
                  <a:cubicBezTo>
                    <a:pt x="334" y="454"/>
                    <a:pt x="392" y="452"/>
                    <a:pt x="435" y="462"/>
                  </a:cubicBezTo>
                  <a:cubicBezTo>
                    <a:pt x="507" y="478"/>
                    <a:pt x="568" y="492"/>
                    <a:pt x="642" y="500"/>
                  </a:cubicBezTo>
                  <a:cubicBezTo>
                    <a:pt x="705" y="497"/>
                    <a:pt x="768" y="496"/>
                    <a:pt x="831" y="491"/>
                  </a:cubicBezTo>
                  <a:cubicBezTo>
                    <a:pt x="879" y="487"/>
                    <a:pt x="925" y="461"/>
                    <a:pt x="973" y="453"/>
                  </a:cubicBezTo>
                  <a:cubicBezTo>
                    <a:pt x="1007" y="430"/>
                    <a:pt x="1033" y="400"/>
                    <a:pt x="1067" y="377"/>
                  </a:cubicBezTo>
                  <a:cubicBezTo>
                    <a:pt x="1098" y="331"/>
                    <a:pt x="1115" y="317"/>
                    <a:pt x="1115" y="264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424320" y="1965240"/>
              <a:ext cx="3003480" cy="912960"/>
            </a:xfrm>
            <a:custGeom>
              <a:avLst/>
              <a:gdLst/>
              <a:ahLst/>
              <a:rect l="l" t="t" r="r" b="b"/>
              <a:pathLst>
                <a:path w="1892" h="575">
                  <a:moveTo>
                    <a:pt x="1837" y="348"/>
                  </a:moveTo>
                  <a:cubicBezTo>
                    <a:pt x="1892" y="240"/>
                    <a:pt x="1858" y="112"/>
                    <a:pt x="1743" y="75"/>
                  </a:cubicBezTo>
                  <a:cubicBezTo>
                    <a:pt x="1645" y="0"/>
                    <a:pt x="1577" y="40"/>
                    <a:pt x="1431" y="46"/>
                  </a:cubicBezTo>
                  <a:cubicBezTo>
                    <a:pt x="1146" y="40"/>
                    <a:pt x="874" y="42"/>
                    <a:pt x="591" y="56"/>
                  </a:cubicBezTo>
                  <a:cubicBezTo>
                    <a:pt x="507" y="69"/>
                    <a:pt x="431" y="78"/>
                    <a:pt x="345" y="84"/>
                  </a:cubicBezTo>
                  <a:cubicBezTo>
                    <a:pt x="277" y="96"/>
                    <a:pt x="244" y="102"/>
                    <a:pt x="185" y="122"/>
                  </a:cubicBezTo>
                  <a:cubicBezTo>
                    <a:pt x="157" y="131"/>
                    <a:pt x="100" y="150"/>
                    <a:pt x="100" y="150"/>
                  </a:cubicBezTo>
                  <a:cubicBezTo>
                    <a:pt x="62" y="175"/>
                    <a:pt x="50" y="168"/>
                    <a:pt x="24" y="207"/>
                  </a:cubicBezTo>
                  <a:cubicBezTo>
                    <a:pt x="18" y="226"/>
                    <a:pt x="0" y="244"/>
                    <a:pt x="5" y="263"/>
                  </a:cubicBezTo>
                  <a:cubicBezTo>
                    <a:pt x="25" y="340"/>
                    <a:pt x="57" y="389"/>
                    <a:pt x="138" y="414"/>
                  </a:cubicBezTo>
                  <a:cubicBezTo>
                    <a:pt x="214" y="474"/>
                    <a:pt x="132" y="418"/>
                    <a:pt x="223" y="452"/>
                  </a:cubicBezTo>
                  <a:cubicBezTo>
                    <a:pt x="234" y="456"/>
                    <a:pt x="240" y="467"/>
                    <a:pt x="251" y="471"/>
                  </a:cubicBezTo>
                  <a:cubicBezTo>
                    <a:pt x="292" y="487"/>
                    <a:pt x="351" y="493"/>
                    <a:pt x="393" y="499"/>
                  </a:cubicBezTo>
                  <a:cubicBezTo>
                    <a:pt x="532" y="546"/>
                    <a:pt x="681" y="561"/>
                    <a:pt x="827" y="575"/>
                  </a:cubicBezTo>
                  <a:cubicBezTo>
                    <a:pt x="978" y="570"/>
                    <a:pt x="1146" y="548"/>
                    <a:pt x="1299" y="566"/>
                  </a:cubicBezTo>
                  <a:cubicBezTo>
                    <a:pt x="1423" y="558"/>
                    <a:pt x="1545" y="553"/>
                    <a:pt x="1667" y="528"/>
                  </a:cubicBezTo>
                  <a:cubicBezTo>
                    <a:pt x="1708" y="520"/>
                    <a:pt x="1741" y="500"/>
                    <a:pt x="1781" y="490"/>
                  </a:cubicBezTo>
                  <a:cubicBezTo>
                    <a:pt x="1803" y="460"/>
                    <a:pt x="1841" y="430"/>
                    <a:pt x="1856" y="396"/>
                  </a:cubicBezTo>
                  <a:cubicBezTo>
                    <a:pt x="1864" y="378"/>
                    <a:pt x="1875" y="339"/>
                    <a:pt x="1875" y="339"/>
                  </a:cubicBezTo>
                  <a:cubicBezTo>
                    <a:pt x="1868" y="293"/>
                    <a:pt x="1869" y="267"/>
                    <a:pt x="1837" y="23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56320" y="4648320"/>
            <a:ext cx="2629800" cy="397440"/>
            <a:chOff x="256320" y="4648320"/>
            <a:chExt cx="2629800" cy="397440"/>
          </a:xfrm>
        </p:grpSpPr>
        <p:sp>
          <p:nvSpPr>
            <p:cNvPr id="1145" name=""/>
            <p:cNvSpPr/>
            <p:nvPr/>
          </p:nvSpPr>
          <p:spPr>
            <a:xfrm>
              <a:off x="256320" y="4708440"/>
              <a:ext cx="150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6" name="" descr=""/>
            <p:cNvPicPr/>
            <p:nvPr/>
          </p:nvPicPr>
          <p:blipFill>
            <a:blip r:embed="rId7"/>
            <a:stretch/>
          </p:blipFill>
          <p:spPr>
            <a:xfrm>
              <a:off x="1752480" y="4648320"/>
              <a:ext cx="113364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"/>
          <p:cNvGrpSpPr/>
          <p:nvPr/>
        </p:nvGrpSpPr>
        <p:grpSpPr>
          <a:xfrm>
            <a:off x="2971800" y="4667400"/>
            <a:ext cx="2448000" cy="438120"/>
            <a:chOff x="2971800" y="4667400"/>
            <a:chExt cx="2448000" cy="438120"/>
          </a:xfrm>
        </p:grpSpPr>
        <p:pic>
          <p:nvPicPr>
            <p:cNvPr id="1148" name="" descr=""/>
            <p:cNvPicPr/>
            <p:nvPr/>
          </p:nvPicPr>
          <p:blipFill>
            <a:blip r:embed="rId8"/>
            <a:stretch/>
          </p:blipFill>
          <p:spPr>
            <a:xfrm>
              <a:off x="3429000" y="4667400"/>
              <a:ext cx="1990800" cy="438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49" name=""/>
            <p:cNvGraphicFramePr/>
            <p:nvPr/>
          </p:nvGraphicFramePr>
          <p:xfrm>
            <a:off x="2971800" y="4724280"/>
            <a:ext cx="45720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71800" y="4724280"/>
                      <a:ext cx="4572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51" name=""/>
          <p:cNvGrpSpPr/>
          <p:nvPr/>
        </p:nvGrpSpPr>
        <p:grpSpPr>
          <a:xfrm>
            <a:off x="190800" y="5105520"/>
            <a:ext cx="7638840" cy="438120"/>
            <a:chOff x="190800" y="5105520"/>
            <a:chExt cx="7638840" cy="438120"/>
          </a:xfrm>
        </p:grpSpPr>
        <p:sp>
          <p:nvSpPr>
            <p:cNvPr id="1152" name=""/>
            <p:cNvSpPr/>
            <p:nvPr/>
          </p:nvSpPr>
          <p:spPr>
            <a:xfrm>
              <a:off x="190800" y="5165640"/>
              <a:ext cx="55893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hould be a sinusoid of a frequency such t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3" name="" descr=""/>
            <p:cNvPicPr/>
            <p:nvPr/>
          </p:nvPicPr>
          <p:blipFill>
            <a:blip r:embed="rId11"/>
            <a:stretch/>
          </p:blipFill>
          <p:spPr>
            <a:xfrm>
              <a:off x="5715000" y="5105520"/>
              <a:ext cx="211464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152280" y="104760"/>
            <a:ext cx="8844120" cy="6248520"/>
            <a:chOff x="152280" y="104760"/>
            <a:chExt cx="8844120" cy="6248520"/>
          </a:xfrm>
        </p:grpSpPr>
        <p:pic>
          <p:nvPicPr>
            <p:cNvPr id="1155" name="" descr=""/>
            <p:cNvPicPr/>
            <p:nvPr/>
          </p:nvPicPr>
          <p:blipFill>
            <a:blip r:embed="rId12"/>
            <a:stretch/>
          </p:blipFill>
          <p:spPr>
            <a:xfrm>
              <a:off x="152280" y="5638680"/>
              <a:ext cx="4686480" cy="714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56" name=""/>
            <p:cNvGraphicFramePr/>
            <p:nvPr/>
          </p:nvGraphicFramePr>
          <p:xfrm>
            <a:off x="8458200" y="228600"/>
            <a:ext cx="368280" cy="558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458200" y="228600"/>
                      <a:ext cx="3682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8" name=""/>
            <p:cNvSpPr/>
            <p:nvPr/>
          </p:nvSpPr>
          <p:spPr>
            <a:xfrm>
              <a:off x="7008840" y="104760"/>
              <a:ext cx="1987560" cy="1184400"/>
            </a:xfrm>
            <a:custGeom>
              <a:avLst/>
              <a:gdLst/>
              <a:ahLst/>
              <a:rect l="l" t="t" r="r" b="b"/>
              <a:pathLst>
                <a:path w="1252" h="746">
                  <a:moveTo>
                    <a:pt x="760" y="453"/>
                  </a:moveTo>
                  <a:cubicBezTo>
                    <a:pt x="756" y="402"/>
                    <a:pt x="766" y="346"/>
                    <a:pt x="741" y="302"/>
                  </a:cubicBezTo>
                  <a:cubicBezTo>
                    <a:pt x="734" y="290"/>
                    <a:pt x="721" y="284"/>
                    <a:pt x="712" y="274"/>
                  </a:cubicBezTo>
                  <a:cubicBezTo>
                    <a:pt x="665" y="219"/>
                    <a:pt x="613" y="200"/>
                    <a:pt x="542" y="189"/>
                  </a:cubicBezTo>
                  <a:cubicBezTo>
                    <a:pt x="414" y="196"/>
                    <a:pt x="290" y="200"/>
                    <a:pt x="165" y="227"/>
                  </a:cubicBezTo>
                  <a:cubicBezTo>
                    <a:pt x="127" y="252"/>
                    <a:pt x="97" y="284"/>
                    <a:pt x="61" y="312"/>
                  </a:cubicBezTo>
                  <a:cubicBezTo>
                    <a:pt x="58" y="321"/>
                    <a:pt x="56" y="331"/>
                    <a:pt x="51" y="340"/>
                  </a:cubicBezTo>
                  <a:cubicBezTo>
                    <a:pt x="46" y="350"/>
                    <a:pt x="36" y="358"/>
                    <a:pt x="32" y="368"/>
                  </a:cubicBezTo>
                  <a:cubicBezTo>
                    <a:pt x="19" y="398"/>
                    <a:pt x="12" y="440"/>
                    <a:pt x="4" y="472"/>
                  </a:cubicBezTo>
                  <a:cubicBezTo>
                    <a:pt x="12" y="556"/>
                    <a:pt x="0" y="657"/>
                    <a:pt x="99" y="680"/>
                  </a:cubicBezTo>
                  <a:cubicBezTo>
                    <a:pt x="196" y="738"/>
                    <a:pt x="253" y="738"/>
                    <a:pt x="372" y="746"/>
                  </a:cubicBezTo>
                  <a:cubicBezTo>
                    <a:pt x="429" y="743"/>
                    <a:pt x="486" y="743"/>
                    <a:pt x="542" y="737"/>
                  </a:cubicBezTo>
                  <a:cubicBezTo>
                    <a:pt x="568" y="734"/>
                    <a:pt x="618" y="718"/>
                    <a:pt x="618" y="718"/>
                  </a:cubicBezTo>
                  <a:cubicBezTo>
                    <a:pt x="627" y="708"/>
                    <a:pt x="636" y="698"/>
                    <a:pt x="646" y="689"/>
                  </a:cubicBezTo>
                  <a:cubicBezTo>
                    <a:pt x="655" y="682"/>
                    <a:pt x="666" y="679"/>
                    <a:pt x="675" y="671"/>
                  </a:cubicBezTo>
                  <a:cubicBezTo>
                    <a:pt x="695" y="653"/>
                    <a:pt x="731" y="614"/>
                    <a:pt x="731" y="614"/>
                  </a:cubicBezTo>
                  <a:cubicBezTo>
                    <a:pt x="734" y="605"/>
                    <a:pt x="735" y="594"/>
                    <a:pt x="741" y="586"/>
                  </a:cubicBezTo>
                  <a:cubicBezTo>
                    <a:pt x="748" y="577"/>
                    <a:pt x="764" y="577"/>
                    <a:pt x="769" y="567"/>
                  </a:cubicBezTo>
                  <a:cubicBezTo>
                    <a:pt x="783" y="538"/>
                    <a:pt x="780" y="503"/>
                    <a:pt x="788" y="472"/>
                  </a:cubicBezTo>
                  <a:cubicBezTo>
                    <a:pt x="801" y="323"/>
                    <a:pt x="842" y="88"/>
                    <a:pt x="977" y="0"/>
                  </a:cubicBezTo>
                  <a:cubicBezTo>
                    <a:pt x="999" y="3"/>
                    <a:pt x="1022" y="4"/>
                    <a:pt x="1043" y="10"/>
                  </a:cubicBezTo>
                  <a:cubicBezTo>
                    <a:pt x="1075" y="19"/>
                    <a:pt x="1071" y="34"/>
                    <a:pt x="1090" y="57"/>
                  </a:cubicBezTo>
                  <a:cubicBezTo>
                    <a:pt x="1121" y="94"/>
                    <a:pt x="1144" y="134"/>
                    <a:pt x="1184" y="161"/>
                  </a:cubicBezTo>
                  <a:cubicBezTo>
                    <a:pt x="1204" y="218"/>
                    <a:pt x="1217" y="273"/>
                    <a:pt x="1232" y="331"/>
                  </a:cubicBezTo>
                  <a:cubicBezTo>
                    <a:pt x="1226" y="418"/>
                    <a:pt x="1252" y="484"/>
                    <a:pt x="1184" y="529"/>
                  </a:cubicBezTo>
                  <a:cubicBezTo>
                    <a:pt x="1128" y="526"/>
                    <a:pt x="1071" y="524"/>
                    <a:pt x="1015" y="519"/>
                  </a:cubicBezTo>
                  <a:cubicBezTo>
                    <a:pt x="959" y="514"/>
                    <a:pt x="897" y="495"/>
                    <a:pt x="845" y="472"/>
                  </a:cubicBezTo>
                  <a:cubicBezTo>
                    <a:pt x="813" y="458"/>
                    <a:pt x="793" y="436"/>
                    <a:pt x="760" y="45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9" name=""/>
          <p:cNvGraphicFramePr/>
          <p:nvPr/>
        </p:nvGraphicFramePr>
        <p:xfrm>
          <a:off x="457200" y="6400800"/>
          <a:ext cx="150480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6400800"/>
                    <a:ext cx="150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"/>
          <p:cNvSpPr/>
          <p:nvPr/>
        </p:nvSpPr>
        <p:spPr>
          <a:xfrm>
            <a:off x="5243760" y="5638680"/>
            <a:ext cx="2204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C=100nF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.59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7560000" y="5791320"/>
            <a:ext cx="1521720" cy="1143000"/>
            <a:chOff x="7560000" y="5791320"/>
            <a:chExt cx="1521720" cy="1143000"/>
          </a:xfrm>
        </p:grpSpPr>
        <p:pic>
          <p:nvPicPr>
            <p:cNvPr id="1163" name="" descr=""/>
            <p:cNvPicPr/>
            <p:nvPr/>
          </p:nvPicPr>
          <p:blipFill>
            <a:blip r:embed="rId17"/>
            <a:stretch/>
          </p:blipFill>
          <p:spPr>
            <a:xfrm>
              <a:off x="7968960" y="6419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7560000" y="5791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651640" y="4495680"/>
            <a:ext cx="3501720" cy="1230480"/>
            <a:chOff x="5651640" y="4495680"/>
            <a:chExt cx="3501720" cy="1230480"/>
          </a:xfrm>
        </p:grpSpPr>
        <p:pic>
          <p:nvPicPr>
            <p:cNvPr id="1166" name="" descr=""/>
            <p:cNvPicPr/>
            <p:nvPr/>
          </p:nvPicPr>
          <p:blipFill>
            <a:blip r:embed="rId18"/>
            <a:stretch/>
          </p:blipFill>
          <p:spPr>
            <a:xfrm>
              <a:off x="6553080" y="4495680"/>
              <a:ext cx="26002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5651640" y="4979880"/>
              <a:ext cx="2655720" cy="746280"/>
            </a:xfrm>
            <a:custGeom>
              <a:avLst/>
              <a:gdLst/>
              <a:ahLst/>
              <a:rect l="l" t="t" r="r" b="b"/>
              <a:pathLst>
                <a:path w="1673" h="470">
                  <a:moveTo>
                    <a:pt x="198" y="17"/>
                  </a:moveTo>
                  <a:cubicBezTo>
                    <a:pt x="151" y="0"/>
                    <a:pt x="97" y="28"/>
                    <a:pt x="57" y="55"/>
                  </a:cubicBezTo>
                  <a:cubicBezTo>
                    <a:pt x="28" y="98"/>
                    <a:pt x="16" y="147"/>
                    <a:pt x="0" y="196"/>
                  </a:cubicBezTo>
                  <a:cubicBezTo>
                    <a:pt x="1" y="202"/>
                    <a:pt x="10" y="261"/>
                    <a:pt x="19" y="272"/>
                  </a:cubicBezTo>
                  <a:cubicBezTo>
                    <a:pt x="88" y="359"/>
                    <a:pt x="287" y="340"/>
                    <a:pt x="378" y="347"/>
                  </a:cubicBezTo>
                  <a:cubicBezTo>
                    <a:pt x="458" y="374"/>
                    <a:pt x="514" y="378"/>
                    <a:pt x="604" y="385"/>
                  </a:cubicBezTo>
                  <a:cubicBezTo>
                    <a:pt x="819" y="423"/>
                    <a:pt x="1039" y="447"/>
                    <a:pt x="1256" y="470"/>
                  </a:cubicBezTo>
                  <a:cubicBezTo>
                    <a:pt x="1375" y="462"/>
                    <a:pt x="1480" y="445"/>
                    <a:pt x="1596" y="423"/>
                  </a:cubicBezTo>
                  <a:cubicBezTo>
                    <a:pt x="1673" y="371"/>
                    <a:pt x="1645" y="400"/>
                    <a:pt x="1671" y="319"/>
                  </a:cubicBezTo>
                  <a:cubicBezTo>
                    <a:pt x="1656" y="238"/>
                    <a:pt x="1625" y="216"/>
                    <a:pt x="1548" y="196"/>
                  </a:cubicBezTo>
                  <a:cubicBezTo>
                    <a:pt x="1498" y="158"/>
                    <a:pt x="1438" y="155"/>
                    <a:pt x="1378" y="140"/>
                  </a:cubicBezTo>
                  <a:cubicBezTo>
                    <a:pt x="1169" y="87"/>
                    <a:pt x="963" y="89"/>
                    <a:pt x="746" y="83"/>
                  </a:cubicBezTo>
                  <a:cubicBezTo>
                    <a:pt x="564" y="51"/>
                    <a:pt x="382" y="38"/>
                    <a:pt x="198" y="17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1" dur="indefinite" restart="never" nodeType="tmRoot">
          <p:childTnLst>
            <p:seq>
              <p:cTn id="3072" dur="indefinite" nodeType="mainSeq">
                <p:childTnLst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fill="hold">
                      <p:stCondLst>
                        <p:cond delay="indefinite"/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Jorge Aravena</cp:lastModifiedBy>
  <cp:lastPrinted>2001-10-19T21:23:10Z</cp:lastPrinted>
  <dcterms:modified xsi:type="dcterms:W3CDTF">2004-09-19T14:57:33Z</dcterms:modified>
  <cp:revision>24</cp:revision>
  <dc:subject/>
  <dc:title>No Slide Title</dc:title>
</cp:coreProperties>
</file>